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7FDC-64E2-4226-BF44-5D224465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75B9-057B-46AD-8B70-AD979B4D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7F70-8699-4D33-B583-D55DF19D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E0BA-E6B7-4A96-A0DB-F6DE9DC7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3E3-EA16-44EB-8DFE-3CEC08FF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D571-DB7A-464E-860E-B71CA9B9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AE75-C8DF-4FE9-80B5-65810B3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9E9F-FA93-45E2-9F64-E157E45C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ED0-E6CD-45E4-B564-3FC4F91C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D6E-F522-4F24-A125-1855DC2B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B71E-DCC6-4DAB-A079-502A822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5F5D-0D10-4BB1-8AC0-68ACA9E1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EC1B-67FD-4EEB-946D-A48966A7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D6E4-862A-4E09-B190-0A45652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F518-3FD5-490F-836B-3F9D7797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E18-DA9B-41D9-A4DF-D83096C3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D52A-4520-425C-AB84-99408D4B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5C50-DA9D-48E5-AD7F-780D732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1105-AE6C-4C1E-80A6-A089D11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F3CE-B99B-46AB-8F6C-F257EC5E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8BFF-4574-4254-BA19-C167D311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5E79-E4B4-4281-BA21-6E3F0E1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4671-9FE1-4868-88AF-B4B474D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D0FB-798A-47D1-879B-A984AA4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3D87-84C2-45BA-BF15-88BF9B9404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72A-FAB0-47F0-8581-9754890C91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order to retire buy 2030 on todays equivalent of 2000 a month workers have to set aside 8000 a year starting n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un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od, swamp, delu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ingui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ll apart, differenti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hard to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istinguish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ween the tw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audib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apable of being hea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 screams for help wer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audibl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er neighb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90920" y="4114800"/>
            <a:ext cx="3047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ou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period of dry weather, lack of ra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seems like there is 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rou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very summ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mish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rving, to be extremely hung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ssing hikers wer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mishe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they were finally f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8360" y="1957320"/>
            <a:ext cx="3038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cabulary Exercise-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one sentence using 5 of the vocabulary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s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order to retire by 2030 on today’s equivalent of $2,000 a month, workers have to set aside $8000 a year starting n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the right 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oph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cused Freewr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m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uld you rath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x-ray v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nic he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cabulary-Unit 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make up a sentence, if there isn’t one already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e, take part in a contest, fight or strugg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243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ud noise, upro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couldn’t hear what you were saying because the jet plane that was passing made suc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ul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eal, disclose, make kn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shouldn’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ivul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your friend’s secr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2428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sequent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ter, afterw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ver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 across, over, or through, cro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886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6:53:27Z</dcterms:created>
  <dc:creator>Angie</dc:creator>
  <dc:description/>
  <dc:language>en-US</dc:language>
  <cp:lastModifiedBy>Angie</cp:lastModifiedBy>
  <dcterms:modified xsi:type="dcterms:W3CDTF">2009-02-09T07:21:39Z</dcterms:modified>
  <cp:revision>2</cp:revision>
  <dc:subject/>
  <dc:title>DOL</dc:title>
</cp:coreProperties>
</file>